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7C22-E324-475A-B5FB-7AEAB96FF4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5D20-31C0-48C1-8E29-D2357B47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22C2-A005-439B-A93D-28E897F5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1F1B-2BDC-4894-B926-2CB81DFA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C128-08AD-41DD-A94B-3D7BFF7A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7B509-7700-41D3-9FBA-04C7B9F0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D079D-3481-4485-9BA1-0696927A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C324C-E105-49F8-B15A-D483E088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0B169-0A75-404F-9ACE-CC50413D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7EB7A-593B-41B9-A15E-149D08D3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FFE2E-E2CC-4817-825D-2A0C80DD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A6B4E-DBBE-4EFB-B3FE-DD034F54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68C0-442F-47CC-A015-17900FE4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FB9AA-52A7-43C5-9395-295C991C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8DF48-6F06-446A-936E-0502BB64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61335-FA12-4C7E-8589-2D2458A8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953B9-4D32-417D-AD33-EEDF0B44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AA9C8-9C0D-4052-9A68-5B0AE012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F1C182-7EB6-4B2E-94B2-1321D675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25AAAD-BA20-455F-87E2-BBB7A314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D98C95-FF09-4D3B-A737-74C70A79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6BA4E2-13B7-4E7A-B2CA-5F0682AF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DAC686-FCE3-4878-BD23-9BECFD90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CE7B-B825-4910-8B46-5C8F83FB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2272F8-E6F6-4580-97AC-AA2E3792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085CE6-A6F3-473D-8879-5E41CC8D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98BA89-817C-4E57-9170-D08E3338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52CFDA-91B1-4DF1-97FD-9AD3F863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54F69B-FA00-43E6-8C92-AE059899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5443B-7191-4E7A-8A5C-AED37214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AE8A1B-36ED-48C6-819B-2FDEF610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B971-346F-4774-97A2-70512D20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3D20-88DA-41E9-B556-DA65CFBE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DE3B-A2B7-4819-BF45-0CF58F5C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B247-17CF-4B08-8C9E-A98E1A2C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40C9-2038-488A-AC71-0D1CF352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7247-82CC-4867-847F-15FD6946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DEAF-CF36-4FAE-B25C-579C7E59B9A5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54C6-2C32-4FA7-8AB0-F8A8EC997455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80D0-EE70-4B47-9EBC-3A54A7F9B6BD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FC84-631E-40EB-8F7B-F54C9287B26B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B4AB-0816-4D17-BDCC-E825335A0465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9849-90E0-4813-98A5-61ACF8307F22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30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of Container Wago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4280" y="6093000"/>
            <a:ext cx="2654280" cy="461880"/>
            <a:chOff x="134280" y="6093000"/>
            <a:chExt cx="265428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400" y="6308640"/>
              <a:ext cx="26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_2015-01-20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4280" y="60930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cument title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53A8-DBC9-4E7D-8A3C-FE9CE6C186D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20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B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91BC-C799-4EBC-A229-5D8688FFED5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Textfeld 5"/>
          <p:cNvSpPr/>
          <p:nvPr/>
        </p:nvSpPr>
        <p:spPr>
          <a:xfrm rot="20397600">
            <a:off x="64339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22320" y="2255760"/>
            <a:ext cx="9883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 of results and comment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ssential aspect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ects intentionally left out of the analysis, the impact of which is as follows: (…)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y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 present value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ak-even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years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year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positive value:  revenue,    negative values: 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break-even:   number of years until the alternative option becomes advantageou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annuity:  average annual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A2D4-6753-4C81-A40D-C58E1EB08F6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ponsible Departmen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tenance documentation 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Origi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riation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alternative option to basic op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y Performance Indicato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age between reprofiling wheel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3976-E932-4E4F-BCE2-5567422B7DF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7" name="Textfeld 1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-and-loss chart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Delta of variant “B” in relation to variant “A” [= zero lin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4680-0F38-4387-A12A-6887922875B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1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3" name="Picture 303" descr=""/>
          <p:cNvPicPr/>
          <p:nvPr/>
        </p:nvPicPr>
        <p:blipFill>
          <a:blip r:embed="rId1"/>
          <a:stretch/>
        </p:blipFill>
        <p:spPr>
          <a:xfrm>
            <a:off x="878040" y="1446120"/>
            <a:ext cx="8132760" cy="518976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4"/>
          <p:cNvSpPr/>
          <p:nvPr/>
        </p:nvSpPr>
        <p:spPr>
          <a:xfrm rot="20397600">
            <a:off x="62053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eak-even char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2BE4-67F3-4042-8180-5D99162D6AC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Textfeld 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85978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recommended to purchase the container wagon made by company B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ed Option / Recommend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cause of the radial adjustability of the wheelsets, the wear rate of the wheels is lower and the lifetime of the wheels and the reprofiling cycle are therefore considerably lo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e to the higher quality of the container locks, maintenance expenditure is lower compared with the container wagon made by company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natory Statement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-even:     13 year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erage Annual Savings     (Delta Annuity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rify financial optio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condition for Implement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a purchase time schedule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tain approval from financial controlling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rther Procedure        Target Date / Responsibiliti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23EB-A2BB-45ED-A5B6-B65F84B274C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0" name="Textfeld 1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val 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73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mpiled by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74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Traceability of implementati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76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9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1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82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5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6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7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93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alidated by client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94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95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9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401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6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7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8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9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0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1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2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3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14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1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8277-84A8-4B91-969A-2DBE8B74101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6" name="Textfeld 49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chase of 85 new container flat wagons, each carrying 60’ in total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operator’s quality gate (filter) has been applied, only the container flat wagons of the two companies A and B remai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onsible for the LCC calculation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s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/09/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/01/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Life Cycle Costs of both remaining wagons are to be calculat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Client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rting 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tas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iginator of the LCC calculation, dat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7320" y="6419880"/>
            <a:ext cx="494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ed,  A = Agreed  D = Decided,  P = Preconditions in place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c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D          P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6060-C622-4C03-8194-DAF58B7E0CF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 Framework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relevant / relevant, but not part of the 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ained in the 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rmined on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7004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7004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container locking 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5448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 replacement of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5448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ingle Sgns-type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53040" y="41162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76520" y="40766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-type 380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of other parts of the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consumption while operat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access charg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ading / unload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3551-0B14-4AF2-B281-E2CD0357D29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3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Breakdown Structure / System Environment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unted par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carriag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else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872800" y="4218840"/>
            <a:ext cx="179604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872800" y="5515920"/>
            <a:ext cx="181512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8FA1-D1EF-4C37-B53D-147E70C092B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20"/>
          <p:cNvSpPr/>
          <p:nvPr/>
        </p:nvSpPr>
        <p:spPr>
          <a:xfrm rot="20397600">
            <a:off x="628164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61468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. Oper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703600" y="1944720"/>
            <a:ext cx="21780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1 Energ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2 Staf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3 Clean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4 Making avail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 Insurance /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6 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 Infrastructure u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 seg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b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track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ipment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04180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. Mainten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472520" y="1484280"/>
            <a:ext cx="233820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V. Product Failu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48480" y="1936800"/>
            <a:ext cx="21481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1  Product 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3  Malfunc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plann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1  Pro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3  Malfun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0160" y="1496880"/>
            <a:ext cx="2315880" cy="468180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chase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16080" y="1949400"/>
            <a:ext cx="211608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One-off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Recurrent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assembly 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ommissioning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116680" y="1936800"/>
            <a:ext cx="212868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0 “One-off” prepar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ection / Diagnostic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4 Condition-bas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7 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system for vehicl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CC cost blocks used for the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49400" y="6194520"/>
            <a:ext cx="65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)  For simplicity’s sake, the term “purchase” also comprises residual costs as well as disposal / further utilisation.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72880" y="2998800"/>
            <a:ext cx="218304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097600" y="4092480"/>
            <a:ext cx="2182680" cy="37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089680" y="31590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46AC-8100-4A70-8E78-B41FD377F1D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Textfeld 15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pose &amp; brief description of each op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reduced maintenance expenditure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well-known characteristics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d to the existing wagon type, both the lifetime of the wheels and the reprofiling cycle are extended. The reliability of container lockings will be significantly improve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wer investment cost may result in maintenance expenditure being the same as today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82BB-A784-4E8C-87BB-1BE71DE1F7B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Textfeld 11"/>
          <p:cNvSpPr/>
          <p:nvPr/>
        </p:nvSpPr>
        <p:spPr>
          <a:xfrm rot="20397600">
            <a:off x="48337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nts: list of principal difference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 rate:                 10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 rate:                   3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 span of wagon:      25 year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nual mileage:          115,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nings are fixed and equivalent for both options. For this reason only the cost structure of the two options will be compar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rks concerning general assumptions for all options, comments and critical factor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wheelse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running gear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container loc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ance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container locks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379A-EECB-44E8-9F56-0AE6EED3B92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Textfeld 20"/>
          <p:cNvSpPr/>
          <p:nvPr/>
        </p:nvSpPr>
        <p:spPr>
          <a:xfrm rot="20397600">
            <a:off x="55195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osition of Cost and Cycle Dat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,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,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92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container lock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18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9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rrective maintenance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profiling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7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B4E5-66DF-4B3D-82F2-87F6D82D834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2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EF91-226A-40A0-B361-FFE34F8D69D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Textfeld 4"/>
          <p:cNvSpPr/>
          <p:nvPr/>
        </p:nvSpPr>
        <p:spPr>
          <a:xfrm rot="20397600">
            <a:off x="59767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2320" y="2252520"/>
            <a:ext cx="9878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3T13:14:47Z</dcterms:modified>
  <cp:revision>83</cp:revision>
  <dc:subject/>
  <dc:title>Slide 0</dc:title>
</cp:coreProperties>
</file>